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6F4C-EBE7-4ED2-AFEB-8E468F6B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09C-8F53-4EA5-9DF6-60FA1EAE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E21-9912-49B8-B520-93B8951C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0C8-96CA-4D67-AC03-DB5AB2E8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274-D3DE-4EE4-9516-194FA6D6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E82D-D0B4-45F8-B8ED-2A4CB280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05B-E83C-447A-B51E-A16950F3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698-DFC3-4EA4-BD1D-E9C48FE4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4B7-B27B-4624-B7E5-57DB0A50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198-07E2-457A-9242-6B5315F2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F99-481C-42D5-BE80-CDB2E813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6E9-D2D8-4865-9C9F-1F85FE72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363B-B403-4F36-BCAD-19F327C0E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paul.novak@epa.ohio.gov" TargetMode="External"/><Relationship Id="rId2" Type="http://schemas.openxmlformats.org/officeDocument/2006/relationships/hyperlink" Target="mailto:paul.novak@epa.ohio.gov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9520" y="990360"/>
            <a:ext cx="4876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io EPA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419720" y="2362320"/>
            <a:ext cx="3504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RSANCO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ul Nov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ctober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C:\Documents and Settings\mharris\Local Settings\Temporary Internet Files\Content.IE5\CMT9KIPI\MP900403476[1].jpg"/>
          <p:cNvPicPr/>
          <p:nvPr/>
        </p:nvPicPr>
        <p:blipFill>
          <a:blip r:embed="rId1"/>
          <a:stretch/>
        </p:blipFill>
        <p:spPr>
          <a:xfrm>
            <a:off x="533520" y="990720"/>
            <a:ext cx="36352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cility Upda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shington Coun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AMP Ohio Coal Fired Power Pla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lishing power pl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erial handling operation proposed for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cy approved closure of fly ash landfill &amp; impound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cility Upda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ams Coun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DP&amp;L Stuart St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GD Landf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earing of Vegetation for Landfill Construction Prior to Issuance of 4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diment Impacts Downstr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September 25, 2013, U.S. EPA’s final Admin Order &amp; Consent Order filed with Regional Hearing Cle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DES Permit Appeal (Permit Renewed 1/7/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Temperature NCC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ministrative Hearing Expected Early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Paul Nov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io EPA, Division of Surface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aul.novak@epa.ohio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14-644-2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e Making/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utrient WQS - Phosphor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ternal Technical Advisory Group being form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oup will advise Agency as rulemaking procee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pdated Federal Ammonia Aquatic Life Criteri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reviewing, no decision whether to adopt federal criter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PA Wants Phosphorus Limits Less Than 1 mg/L Lake Erie Discharger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troit Seasonal Limit of 0.65 mg/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cility Upda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fferson Coun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teubenville WWT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reached agreement in principle on second amended consent order addressing CSOs and LTC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Cardinal Coal Fired Power Pla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conducting water quality study for site specific criteria for fly ash reservoir discharge to Blockhouse Hollow for thallium &amp; ammonia – have compliance schedule in renewed NP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cility Upda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lmont Coun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</a:rPr>
              <a:t>EORWA WWTP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– Wet Weath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al DFFOs issued to 5 satellite communities on June 14, 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per O&amp;M of collection systems, certified operators &amp; proper reporting of overflow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ORWA WWTP Redoing  Study on Options to Increase Treatment Plant Capa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</a:rPr>
              <a:t>Old Martins Ferry Steel Mil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– Plant is Id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rrent owner submitted No Exposure for industrial storm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rtion of storm water sold for oil &amp; gas well dri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cility Upda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allia Coun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</a:rPr>
              <a:t>Gallipolis WWTP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anding WWTP to handle existing sewered &amp; unsewered areas in county around 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tal upgrade $7-8 million  &amp; completed in 2-3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I issued with to work begin s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</a:rPr>
              <a:t>Ohio Power Gavin/AEP Coal Fired Power Plan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ly ash pond closure PTI Expected by November with closure expected by Nov 2019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 has PTI for FGD landfill expan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PDES renewal permit draft public notice expected November 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rcury, Selenium, TDS Issues at FGD Leachate P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cility Upda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allia County Co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Calibri"/>
              </a:rPr>
              <a:t>Rolling Hills Natural Gas Generating St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osing 15 mile cooling water intake &amp; discharge lines in Ohio R near Kyger Creek for 2 new combined cycle uni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DES mod received Sept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Calibri"/>
              </a:rPr>
              <a:t>Ohio Valley Electric Corp, Kyger Creek S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ructing Additional Ponds to Address FGD landfill  mercury lim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ing closure of last remaining fly ash impound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DES renewal draft public notice expected November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cility Upda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igs Coun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</a:rPr>
              <a:t>Pomeroy WWTP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SO work ongo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wer separation &amp; repair status – Phase I complete, Phase II 80%, Phase III 25%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WTP upgrades status – Phase I complete, Phase II 95%, Phase III not start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</a:rPr>
              <a:t>Middleport WWTP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TCP projects complet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iolating NPDES loading limits (not concentration) due to increased wet weather flow.  Submitted permit mod to increase limit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cility Upda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igs County Co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outhern Ohio Coal Company AMD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 mile pipeline and diffuser at Ohio River for closed mine 31 WWTP efflu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I &amp; NPDES draft permits for pipeline and diffuser public noticed October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cility Upda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ioto Coun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Portsmouth WWT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signed U.S. EPA consent order on Sept 27, 2013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ase I includes construction of 2 storage tanks at in 5-years at cost of $5 million.  Precursors to future pro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New Bost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rebidding LTCP Phase I in Oct 2013, result in Dec loan aw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7:48:31Z</dcterms:created>
  <dc:creator>callen2</dc:creator>
  <dc:description/>
  <dc:language>en-US</dc:language>
  <cp:lastModifiedBy>jklear</cp:lastModifiedBy>
  <dcterms:modified xsi:type="dcterms:W3CDTF">2013-10-15T15:32:26Z</dcterms:modified>
  <cp:revision>29</cp:revision>
  <dc:subject/>
  <dc:title>PowerPoint Presentation</dc:title>
</cp:coreProperties>
</file>